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TING ligands activate the noncanonical NF-κB signaling pathway in a STING-dependent manner in MEFs. (A) STIN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STING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EFs were stimulated with 10 μg/ml of dsDNA90 or 10 μg/ml of poly(I·C) for the indicated times. The expression levels of STING, NF-κBp52, NF-κBp100 phosphorylated at Ser866/870 (p-NF-κBp100), and β-actin were determined by immunoblotting. (B) Immortalized MEFs derived from wild-type (WT) and IKKα-deficient (IKKα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mice (top panels) or wild-type (TBK1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+/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TBK1-deficient (TBK1</a:t>
            </a:r>
            <a:r>
              <a:rPr b="0" lang="en-GB" sz="1200" spc="-1" strike="noStrike" baseline="33000">
                <a:solidFill>
                  <a:srgbClr val="000000"/>
                </a:solidFill>
                <a:latin typeface="Arial"/>
                <a:ea typeface="msgothic"/>
              </a:rPr>
              <a:t>−/−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mice (bottom panels) were stimulated with 10 μg/ml of dsDNA90 for the indicated times. The expression levels of IKKα, TBK1, NF-κBp52, NF-κBp100 phosphorylated at Ser866/870 (p-NF-κBp100), and β-actin were determined by immunoblotting. The phosphorylation state of NF-κBp100 is indicated by an arrowhead. (C) Model of dsDNA-mediated canonical and noncanonical NF-κB activation triggered by STING. Upon dsDNA stimulation, STING is activated and traffics with TBK1 as a signaling complex from the ER to a perinuclear endosomal compartment to activate IRF3 (right arm) and NF-κB. STING is also activated by cGAMP produced by cGAS, which was recently identified as a candidate DNA sensor. TRAF6 may be recruited to the signaling complexes with STING and TBK1, which in turn activates the canonical NF-κBp65 signaling pathway through the IKKαβ activation loop (center arm). STING-mediated NF-κBp65 activation may also contribute to dsDNA-mediated IFN-β production. On the other hand, STING may also activate the noncanonical NF-κB signaling pathway through the TRAF3-IKKα axis, leading to modulation of the dsDNA-mediated canonical NF-κB signaling pathway (left arm). Thus, TRAF3 may be involved in the modulation of canonical and noncanonical dsDNA-mediated NF-κB activation triggered upon STING acti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ING ligands activate the noncanonical NF-κB signaling pathway in a STING-dependent manner in MEFs. (A) STING+/+ and STING−/− MEFs were stimulated with 10 μg/ml of dsDNA90 or 10 μg/ml of poly(I·C) for the indicated tim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" y="6659640"/>
            <a:ext cx="10044000" cy="900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17600" y="1079640"/>
            <a:ext cx="565164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176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ayuki Abe, and Glen N. Barber J. Virol. 2014;88:5328-53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